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FCEC-01D3-4A49-9587-5CAEA113C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K allows for another important perspective of cognitive complexity.    Think about the content assessed in a test item and the intended cognitive demand, or the depth to which we expect students to demonstrate understanding of that content.   Webb’s DOK levels name &amp; describe four different ways a stud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2655-8770-4F5A-AEE4-E9E34DB21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hink the meaning of test alignment to standards to include both the content assessed in a test item and intended cognitive demand, or the depth to which we expect students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monstrate understanding of that content.  What can they </a:t>
            </a:r>
            <a:r>
              <a:rPr b="0" i="1" lang="en-US" sz="1200" spc="-1" strike="noStrike">
                <a:solidFill>
                  <a:srgbClr val="c0504d"/>
                </a:solidFill>
                <a:latin typeface="Calibri"/>
              </a:rPr>
              <a:t>do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with their knowle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A983-987E-4231-AB8C-E6F3A707C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32C-FC5D-4D24-99DE-42F9DD9D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E36-AFB3-4BFC-852C-DE1160B0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927-4696-4DF7-82CD-71F05C7C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E83-91D9-4B10-A2AF-645265E3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288-C5D2-4E06-9CE6-A2981839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7124-1376-46AD-8294-FBD801CD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17EA-343D-4F85-BB78-95037C67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A643-418C-4350-B0C5-91A75269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7289-FCE3-4638-93E4-655CB33D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977-9BEA-44E3-803E-F3A36199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D3A8-755A-4123-BC41-3CEF435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C0D-D090-42FE-A8A8-CB5506CE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9574-8076-469A-A7BD-BA85D9FF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6416-B7FA-42B1-BA08-FEF025FC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7BAC-B642-4AAC-9D21-430AE3D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ED71-7F1C-4ACB-BCB9-A66E6122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CA17-257A-4344-A3B7-D3A84A50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B82E-4D97-4379-8F8C-489E55BF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8E7B-742A-458B-A1BD-BDEF3043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4054-58D3-49E0-A8B8-04B6CFA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D1A0-07F7-43CA-B512-B2778E76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69A5-75E9-4C4D-82B5-71939D2F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D7D-1B83-403C-A2DF-7D02AEE2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A516-E230-4197-8DC3-74811B2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2619-3618-40E8-BA63-7F824D7F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6274-BCE9-44B4-954D-6473CA1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B73D-8152-4224-A91C-86BC0781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3A9A-4F00-45FE-8657-A8664F16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CB6B-7941-493B-8354-9EEEBDAF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EE39-A869-4AC1-939A-6CCB7368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2229-505D-4B60-9396-80C5DBDD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A134D-7B06-4244-A23D-26B454C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8631-9CDC-47EB-A6B7-A1C7417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850-7F4E-4B83-B614-465FB0A8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FDC4-DA61-43FB-8DDF-F590D7B2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34482-FA2B-41EE-AF0D-EDD3CA17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CB50-E19D-41E9-B9CE-04312CFD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96E2-AE9B-4483-AEF8-D8494629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7871-59EC-4B03-829D-DA6E01F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8B8C-AB9A-4F45-960E-8F10F0C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CB32-A954-46C0-98E5-804EAA95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02B5-690B-4267-8A1F-01ED50A4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B590-8832-4D80-A8FA-F07706A4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B82D-6FA9-4C14-A5CE-B83C0343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AF9-A83F-454A-9523-EC1BF747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B22B-EC16-4757-BE04-15BCFFA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2FF02-8317-44C8-A060-9FBA8F81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FB7C3-3C57-4828-A6A3-C41F31CC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4427-2CB0-4BB5-94F5-F646699F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5603-D457-49D1-913E-A8B1E7DF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3ACF7-BF14-47D0-A8E8-9217B6DA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96767-584A-485E-AE9A-687C58B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DAC41-B37D-4E97-BD26-6419350C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EE4C-4C88-402A-B21E-50E9C1E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5F208-C3A0-4101-80C2-1929F07A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735-0603-4DF7-B20B-2968FC24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AB7AC-B271-4CFC-AD58-F130DCBF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4EDB3-92A5-4599-8285-04A298A3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1A40E-FAD6-4FD2-B72F-2505DDE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DF91-616D-4739-B88F-DAD46037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49ED1-CF85-44A5-AEF7-8373AA1A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8DEB4-7AA2-4C9A-A110-DAAFB5CC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A3B82-398D-4FEE-A43D-302146EC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3ED87-49A0-4C8C-9B82-FDD5AA9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6E5B-17FD-4F0F-8D7E-64E3930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981EA-B8C4-432B-A8C3-94DD6EF3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661-8071-4EF7-9BD6-8990C675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492A5-BC47-4884-A7AA-9B1F2BEC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D5CB4-0B3B-4ADE-8F1D-D6E37E40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D80CA-A80D-4896-A525-A38971C1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B1FC5-A56A-4384-84AE-71785B9A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FCBB9-4400-462A-8C7B-8629DDCC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45BE-23C1-4CE1-8498-D46BFC89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F4E8F-EA51-4AFA-9374-81135BDD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F7D6A-F857-48F1-A90B-2DB4696B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B220-E3E1-46B0-975B-3E701E8A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50489-CAC8-45BF-91C6-4695205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BCE-7D08-4722-BE6B-9EEA610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B354-B1F9-445A-A347-AEC926B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83E2-9A07-48FE-89BA-02B1665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B6EF-2638-4670-A08F-B5423E8D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8D331-1C9D-4152-931B-3F20572B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55556-1A73-4E5A-8365-B549F1FD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775FB-9D45-40BE-93D6-C154B8E7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49F59-72AC-4A72-9129-F9E19E1A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340D-9652-4B63-BEF5-0CC04A82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BA1C0-364F-4D58-8EDA-DA16C557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35BF-8D5C-4A7B-AA3C-48C8BE96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E15-2EDF-49D8-B4A2-D1339CA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B3974-83F7-4A5A-8170-BE4847C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0C937-AA66-43FF-B476-81C93A6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6F8DD-FEBD-4E8B-98DD-9CF4D283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5A89B-152B-453B-B1DE-060756BD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C30A2-C04D-4AB1-8133-3CBDCA93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53ED9-E39F-44F7-B781-33D0543A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C20CC-D2CE-4CBF-A6C3-D54047B7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A53D-55EA-4CD7-98D2-00E27EEA196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CD0F-5AFB-426C-B4F0-812C47803E2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E87-DAC3-4C90-8CE3-41777D85D9F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02A1-EB67-4357-9987-647DE10D3C5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8E89-FE59-49DA-8B47-8F6C2F1D89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9D1B-22ED-4973-9DE3-1EE4844997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691A-EC53-440A-B214-148F1E0C1C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D511-7A9A-4F48-8B8E-F6CA9E222E8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6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2144880" y="1481040"/>
            <a:ext cx="4854240" cy="45259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9"/>
          <p:cNvSpPr/>
          <p:nvPr/>
        </p:nvSpPr>
        <p:spPr>
          <a:xfrm>
            <a:off x="6324480" y="510552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0"/>
          <p:cNvSpPr/>
          <p:nvPr/>
        </p:nvSpPr>
        <p:spPr>
          <a:xfrm>
            <a:off x="5867280" y="5562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Arial"/>
              </a:rPr>
              <a:t>Depth of Knowledge D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http://www.wcer.wisc.edu/news/coverstories/images/webb_norm.jpg"/>
          <p:cNvPicPr/>
          <p:nvPr/>
        </p:nvPicPr>
        <p:blipFill>
          <a:blip r:embed="rId3"/>
          <a:stretch/>
        </p:blipFill>
        <p:spPr>
          <a:xfrm>
            <a:off x="7086600" y="2286000"/>
            <a:ext cx="1370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  <a:ea typeface="MS PGothic"/>
              </a:rPr>
              <a:t>Created at the University of Wisconsin Center for Education Research and the National Institute for Science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  <a:ea typeface="MS PGothic"/>
              </a:rPr>
              <a:t>Has been </a:t>
            </a:r>
            <a:r>
              <a:rPr b="0" lang="en-US" sz="2800" spc="-1" strike="noStrike">
                <a:solidFill>
                  <a:srgbClr val="fb0b05"/>
                </a:solidFill>
                <a:latin typeface="Arial"/>
                <a:ea typeface="MS PGothic"/>
              </a:rPr>
              <a:t>used to guide assessment developmen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  <a:ea typeface="MS PGothic"/>
              </a:rPr>
              <a:t> for classroom, school and state assess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0b05"/>
                </a:solidFill>
                <a:latin typeface="Arial"/>
                <a:ea typeface="MS PGothic"/>
              </a:rPr>
              <a:t>Provides a 1-4 scale of cognitive demand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  <a:ea typeface="MS PGothic"/>
              </a:rPr>
              <a:t> that help align standards with CCSS assess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Can be used to help define what we mean by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i="1" lang="en-US" sz="2800" spc="-1" strike="noStrike">
                <a:solidFill>
                  <a:srgbClr val="062329"/>
                </a:solidFill>
                <a:latin typeface="Arial"/>
                <a:ea typeface="MS PGothic"/>
              </a:rPr>
              <a:t>rigorous tas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”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and/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i="1" lang="en-US" sz="2800" spc="-1" strike="noStrike">
                <a:solidFill>
                  <a:srgbClr val="062329"/>
                </a:solidFill>
                <a:latin typeface="Arial"/>
                <a:ea typeface="MS PGothic"/>
              </a:rPr>
              <a:t>cognitively demandin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”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3"/>
          <p:cNvSpPr/>
          <p:nvPr/>
        </p:nvSpPr>
        <p:spPr>
          <a:xfrm>
            <a:off x="457200" y="609480"/>
            <a:ext cx="8404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Depth of Knowledge: 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2bf"/>
                </a:solidFill>
                <a:latin typeface="Arial"/>
              </a:rPr>
              <a:t>Level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dentify th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2bf"/>
                </a:solidFill>
                <a:latin typeface="Arial"/>
              </a:rPr>
              <a:t>Level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xplain the function of the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2bf"/>
                </a:solidFill>
                <a:latin typeface="Arial"/>
              </a:rPr>
              <a:t>Level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xplain how a drought might affect the growth of th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a2bf"/>
                </a:solidFill>
                <a:latin typeface="Arial"/>
              </a:rPr>
              <a:t>Level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sign an investigation of seedling growth to determine the best fertilizer for this type of t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oak_tree_nature-11908.jpg"/>
          <p:cNvPicPr/>
          <p:nvPr/>
        </p:nvPicPr>
        <p:blipFill>
          <a:blip r:embed="rId1"/>
          <a:stretch/>
        </p:blipFill>
        <p:spPr>
          <a:xfrm>
            <a:off x="5943600" y="1219320"/>
            <a:ext cx="2666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40800"/>
                </a:solidFill>
                <a:latin typeface="Arial"/>
                <a:ea typeface="MS PGothic"/>
              </a:rPr>
              <a:t>Level 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: Recall and Reproduction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Requires </a:t>
            </a:r>
            <a:r>
              <a:rPr b="1" i="1" lang="en-US" sz="1700" spc="-1" strike="noStrike">
                <a:solidFill>
                  <a:srgbClr val="fb0b05"/>
                </a:solidFill>
                <a:latin typeface="Arial"/>
                <a:ea typeface="MS PGothic"/>
              </a:rPr>
              <a:t>recall of information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,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such as a fact, definition, term, or performance of a simple process or procedur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40800"/>
                </a:solidFill>
                <a:latin typeface="Arial"/>
                <a:ea typeface="MS PGothic"/>
              </a:rPr>
              <a:t>Level 2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: Skills &amp; Concep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Includes the </a:t>
            </a:r>
            <a:r>
              <a:rPr b="1" i="1" lang="en-US" sz="1700" spc="-1" strike="noStrike">
                <a:solidFill>
                  <a:srgbClr val="fc4e4a"/>
                </a:solidFill>
                <a:latin typeface="Arial"/>
                <a:ea typeface="MS PGothic"/>
              </a:rPr>
              <a:t>engagement of some mental processing</a:t>
            </a: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 beyond recalling or reproducing a respons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Items require students to make some decisions as to how to approach the question or problem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20202"/>
                </a:solidFill>
                <a:latin typeface="Arial"/>
                <a:ea typeface="MS PGothic"/>
              </a:rPr>
              <a:t>Actions imply more than one mental or cognitive process/step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40800"/>
                </a:solidFill>
                <a:latin typeface="Arial"/>
                <a:ea typeface="MS PGothic"/>
              </a:rPr>
              <a:t>Level 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: Short-term Strategic Think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Requires </a:t>
            </a:r>
            <a:r>
              <a:rPr b="1" i="1" lang="en-US" sz="1700" spc="-1" strike="noStrike">
                <a:solidFill>
                  <a:srgbClr val="fb0b05"/>
                </a:solidFill>
                <a:latin typeface="Arial"/>
                <a:ea typeface="MS PGothic"/>
              </a:rPr>
              <a:t>deep understanding exhibited through planning, using evidence, and more demanding </a:t>
            </a:r>
            <a:r>
              <a:rPr b="1" i="1" lang="en-US" sz="1700" spc="-1" strike="noStrike" u="sng">
                <a:solidFill>
                  <a:srgbClr val="fb0b05"/>
                </a:solidFill>
                <a:uFillTx/>
                <a:latin typeface="Arial"/>
                <a:ea typeface="MS PGothic"/>
              </a:rPr>
              <a:t>cognitive</a:t>
            </a:r>
            <a:r>
              <a:rPr b="1" i="1" lang="en-US" sz="1700" spc="-1" strike="noStrike">
                <a:solidFill>
                  <a:srgbClr val="fb0b05"/>
                </a:solidFill>
                <a:latin typeface="Arial"/>
                <a:ea typeface="MS PGothic"/>
              </a:rPr>
              <a:t> reasoning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The cognitive demands are complex and abstract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An assessment item that has more than one possible answer and requires students to justify the response would most likely be a Level 3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40800"/>
                </a:solidFill>
                <a:latin typeface="Arial"/>
                <a:ea typeface="MS PGothic"/>
              </a:rPr>
              <a:t>Level 4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MS PGothic"/>
              </a:rPr>
              <a:t>: Extended Strategic Thinking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Requires </a:t>
            </a:r>
            <a:r>
              <a:rPr b="0" i="1" lang="en-US" sz="17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high cognitive demand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and is very complex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Students are </a:t>
            </a:r>
            <a:r>
              <a:rPr b="1" i="1" lang="en-US" sz="1700" spc="-1" strike="noStrike">
                <a:solidFill>
                  <a:srgbClr val="fb0b05"/>
                </a:solidFill>
                <a:latin typeface="Arial"/>
                <a:ea typeface="MS PGothic"/>
              </a:rPr>
              <a:t>expected to make connections, relate ideas within the content or among content areas, and select or devise one approach among many alternatives on how the situation can be solved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65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Due to the complexity of cognitive demand, DOK 4  often requires an extended period of time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394280" y="68580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1f28"/>
                </a:solidFill>
                <a:latin typeface="Arial"/>
              </a:rPr>
              <a:t>Depth of Knowledge: 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990720" y="160020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Arial"/>
              </a:rPr>
              <a:t>Level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Use a dictionary to find the meaning of words; identify figurative language in a reading pa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Arial"/>
              </a:rPr>
              <a:t>Level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Use context cues to identify the meaning of unfamiliar words; describe how figurative language adds to an action or 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Arial"/>
              </a:rPr>
              <a:t>Level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Determine why an author chose to use certain phrases; critique an author’s choice of words to convey a mood or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Arial"/>
              </a:rPr>
              <a:t>Level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Compare/Contrast a specific author’s word choice/style across his texts, even those with different 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j0396700.wmf"/>
          <p:cNvPicPr/>
          <p:nvPr/>
        </p:nvPicPr>
        <p:blipFill>
          <a:blip r:embed="rId1"/>
          <a:stretch/>
        </p:blipFill>
        <p:spPr>
          <a:xfrm>
            <a:off x="7543800" y="5257800"/>
            <a:ext cx="11606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1f28"/>
                </a:solidFill>
                <a:latin typeface="Arial"/>
                <a:ea typeface="MS PGothic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200" spc="-1" strike="noStrike">
                <a:solidFill>
                  <a:srgbClr val="da1f28"/>
                </a:solidFill>
                <a:latin typeface="Arial"/>
                <a:ea typeface="MS PGothic"/>
              </a:rPr>
              <a:t>(Grade 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 Each day that Jasmine turns in her homework on time, she earns 5 points. Jasmine has turned in her homework on time for the last 8 days. How many points has Jasmine earned altogether?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a)30      b)35   </a:t>
            </a: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	</a:t>
            </a: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c)40</a:t>
            </a: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	</a:t>
            </a:r>
            <a:r>
              <a:rPr b="1" lang="en-US" sz="1900" spc="-1" strike="noStrike">
                <a:solidFill>
                  <a:srgbClr val="da1f28"/>
                </a:solidFill>
                <a:latin typeface="Arial"/>
                <a:ea typeface="MS PGothic"/>
              </a:rPr>
              <a:t>   d)45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a1f28"/>
                </a:solidFill>
                <a:latin typeface="Arial"/>
                <a:ea typeface="Arial"/>
              </a:rPr>
              <a:t>Scie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500" spc="-1" strike="noStrike">
                <a:solidFill>
                  <a:srgbClr val="da1f28"/>
                </a:solidFill>
                <a:latin typeface="Arial"/>
                <a:ea typeface="Arial"/>
              </a:rPr>
              <a:t>(Grade 8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scientist synthesizes a new drug. She wants to test its effectiveness in stopping the growth of cancerous tumors. She decides to conduct a series of experiments on laboratory mice to test her hypothesis. What should she do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a1f28"/>
                </a:solidFill>
                <a:latin typeface="Lucida Sans Unicode"/>
              </a:rPr>
              <a:t>a) </a:t>
            </a:r>
            <a:r>
              <a:rPr b="1" lang="en-US" sz="1500" spc="-1" strike="noStrike">
                <a:solidFill>
                  <a:srgbClr val="da1f28"/>
                </a:solidFill>
                <a:latin typeface="Arial"/>
                <a:ea typeface="Arial"/>
              </a:rPr>
              <a:t>Give half the mice the drug, the other half none, and compare their tumor rates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a1f28"/>
                </a:solidFill>
                <a:latin typeface="Arial"/>
                <a:ea typeface="Arial"/>
              </a:rPr>
              <a:t>b) Give the drug to all mice, but only to half every other day, and record tumor rates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a1f28"/>
                </a:solidFill>
                <a:latin typeface="Arial"/>
                <a:ea typeface="Arial"/>
              </a:rPr>
              <a:t>c) Double the dosage to all mice each day until tumors start to disappear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a1f28"/>
                </a:solidFill>
                <a:latin typeface="Arial"/>
                <a:ea typeface="Arial"/>
              </a:rPr>
              <a:t>d) Give the drug only to those mice who have tumors and record their weight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6858000" y="914400"/>
            <a:ext cx="1828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http://t0.gstatic.com/images?q=tbn:ANd9GcSsSQJo8mLbyV0UdPgWf0z66kd5gpfLFESsiX_RHW-Q25_ySBUHWrBXZe9YZg"/>
          <p:cNvPicPr/>
          <p:nvPr/>
        </p:nvPicPr>
        <p:blipFill>
          <a:blip r:embed="rId2"/>
          <a:stretch/>
        </p:blipFill>
        <p:spPr>
          <a:xfrm>
            <a:off x="7010280" y="152280"/>
            <a:ext cx="1533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3"/>
          <p:cNvSpPr/>
          <p:nvPr/>
        </p:nvSpPr>
        <p:spPr>
          <a:xfrm>
            <a:off x="1676520" y="20574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itle 6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407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hy do the main characters in this story conflic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dentify the main characters in this sto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best describes the main characters’ feelings about each oth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terview your friends to find out how they deal with conflicts in their lives &amp; compare/contrast with the actions of the character in foc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4" descr="Your Turn.bmp"/>
          <p:cNvPicPr/>
          <p:nvPr/>
        </p:nvPicPr>
        <p:blipFill>
          <a:blip r:embed="rId2"/>
          <a:stretch/>
        </p:blipFill>
        <p:spPr>
          <a:xfrm>
            <a:off x="7848720" y="57150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Your Turn.bmp"/>
          <p:cNvPicPr/>
          <p:nvPr/>
        </p:nvPicPr>
        <p:blipFill>
          <a:blip r:embed="rId3"/>
          <a:stretch/>
        </p:blipFill>
        <p:spPr>
          <a:xfrm>
            <a:off x="152280" y="228600"/>
            <a:ext cx="13161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7:19:27Z</dcterms:created>
  <dc:creator>kmcauli</dc:creator>
  <dc:description/>
  <dc:language>en-US</dc:language>
  <cp:lastModifiedBy>daphnesnook</cp:lastModifiedBy>
  <dcterms:modified xsi:type="dcterms:W3CDTF">2012-10-05T20:53:56Z</dcterms:modified>
  <cp:revision>119</cp:revision>
  <dc:subject/>
  <dc:title>Assessing Performance Tasks for Rigor</dc:title>
</cp:coreProperties>
</file>